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597-3FA2-4912-9507-EF7B796B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E92-73CB-46C3-B39F-EA5E1237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72D-231C-4743-9D25-A8933185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8D7-B4FD-4DE0-8A4A-5DEEB473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783-1CFD-4C00-AB9F-6D35221E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913-21E2-460A-82B8-F2718036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EF0-FEC4-4E0D-83E8-0D0C0485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72C7-7985-4D6E-BFF9-3FF8DC9F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F3D-5049-494E-A96F-7770822A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B90-417F-4AC5-9074-25703939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1A7-D46D-498B-B8F8-C281E945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5C1-DCF5-46D3-AC25-A99A7BFF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F440-7F43-4F23-BD2E-710F44546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6SIME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098360" y="5867280"/>
            <a:ext cx="113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الآن حسب َ قولِكَ تُطلقُ عبدَكَ يا سيدي بسل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13843cCRujYBHua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0"/>
            <a:ext cx="3276720" cy="77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 فقد رأت عينايَ خلاصَك الذي أعدَدته أمام الأم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نوراً لكل الشعوب أُضي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ومجداً لشعبِك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إسرائيل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6SIME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098360" y="5867280"/>
            <a:ext cx="113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الآن حسب َ قولِكَ تُطلقُ عبدَكَ يا سيدي بسل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BRSO022" descr=""/>
          <p:cNvPicPr/>
          <p:nvPr/>
        </p:nvPicPr>
        <p:blipFill>
          <a:blip r:embed="rId1"/>
          <a:stretch/>
        </p:blipFill>
        <p:spPr>
          <a:xfrm>
            <a:off x="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15000" y="0"/>
            <a:ext cx="3048120" cy="79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المجد للآب الذي أَحبنا ولابنه الذي بموتِهِ خلّص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مجد للروح الساكنِ في قلوبِنا الآن وإلى أبدِ الآبدين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6SIME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098360" y="5867280"/>
            <a:ext cx="113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الآن حسب َ قولِكَ تُطلقُ عبدَكَ يا سيدي بسل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7:11:34Z</dcterms:created>
  <dc:creator>SUZANNE.MD</dc:creator>
  <dc:description/>
  <dc:language>en-US</dc:language>
  <cp:lastModifiedBy>USER</cp:lastModifiedBy>
  <dcterms:modified xsi:type="dcterms:W3CDTF">2003-02-21T03:03:19Z</dcterms:modified>
  <cp:revision>3</cp:revision>
  <dc:subject/>
  <dc:title>PowerPoint Presentation</dc:title>
</cp:coreProperties>
</file>